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052-3F69-4F55-978E-19BBB97A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2B1-1308-4B26-8E14-FED6C2C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CA3-468B-4D57-81F3-F39182C3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464-5B0D-4CEB-983F-AB332A55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7EB-AD61-4E8A-9C1D-20FD11B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28A-04B1-4A4D-A11D-50401A61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B35-A3D3-41D3-82C4-7043044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181-5F82-4D8F-99D9-08BCA7C9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A8F-4665-4939-A92B-9BF3412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549-1457-430D-B535-A16C180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A03-7B16-422F-A7F5-804502DA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EA6-3951-4FAD-BBD2-1A0E076E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B26B-3EB3-45AE-939F-0CC8D11F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entitled to Part A and enrolled in Part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ide reimbursement for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iginal FFS Medicare-covered items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deductible for 2006 is $8,8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% reimbur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able expenses = lesser of actual costs for a service or all the  amou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4:09Z</dcterms:created>
  <dc:creator>CMS</dc:creator>
  <dc:description/>
  <dc:language>en-US</dc:language>
  <cp:lastModifiedBy>CMS</cp:lastModifiedBy>
  <dcterms:modified xsi:type="dcterms:W3CDTF">2006-01-18T17:03:47Z</dcterms:modified>
  <cp:revision>2</cp:revision>
  <dc:subject/>
  <dc:title>Medical savings Accou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9640385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